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A27D-E2CE-4CD1-8655-1C5A36FD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777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85760" y="3884760"/>
            <a:ext cx="777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E1AB-42C2-4153-B56A-8C000227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8440" y="12189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85760" y="38847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8440" y="38847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3718-B177-46F4-9934-6D217BF3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25023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13760" y="1218960"/>
            <a:ext cx="25023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41400" y="1218960"/>
            <a:ext cx="25023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85760" y="3884760"/>
            <a:ext cx="25023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13760" y="3884760"/>
            <a:ext cx="25023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41400" y="3884760"/>
            <a:ext cx="25023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043B-A403-41B0-8F61-56063C5C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8595-7A6F-4CE5-A3B5-9AF3DC93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8576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9355-68BA-4AD5-8D9C-39B00A3F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D835-9E6D-4AF9-A8B6-4B6F9C8D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3792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8440" y="1218960"/>
            <a:ext cx="3792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83FB-8981-42FB-AE26-4B5077E6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C087-A70B-41EB-9095-FF13D14E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E2FE-8DAE-42F4-90C5-7AB09FA0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8440" y="1218960"/>
            <a:ext cx="3792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5760" y="38847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F1CA-1AC8-48AD-98DB-CAA6BD05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8576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C6FF-0EE0-49B6-9226-59F7EDF2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3792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8440" y="12189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68440" y="38847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FB6A-E5B9-425D-9606-C7752EF7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440" y="12189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85760" y="3884760"/>
            <a:ext cx="777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A572-2CD3-4DDF-84DF-8E248E2B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777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85760" y="3884760"/>
            <a:ext cx="777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5058-2004-454B-AB89-92C21801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8440" y="12189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85760" y="38847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68440" y="38847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2A65-F4F2-4696-99CD-4FD7F22F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25023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13760" y="1218960"/>
            <a:ext cx="25023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41400" y="1218960"/>
            <a:ext cx="25023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85760" y="3884760"/>
            <a:ext cx="25023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13760" y="3884760"/>
            <a:ext cx="25023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41400" y="3884760"/>
            <a:ext cx="25023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1B50-DDCE-41DA-B762-9087942A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66C-303F-40F5-936E-619758BC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3792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8440" y="1218960"/>
            <a:ext cx="3792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944A-E4CA-41E9-A158-EB37EA07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04B-B82F-461D-8D93-F1833015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32A-76A3-4A66-BA1E-1E551B38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8440" y="1218960"/>
            <a:ext cx="3792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5760" y="38847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30AB-291F-41EB-89A5-7D19B8CA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3792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8440" y="12189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8440" y="38847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A794-FF03-4496-8039-8CF30A73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8440" y="1218960"/>
            <a:ext cx="37926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85760" y="3884760"/>
            <a:ext cx="777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5C18-2A31-4F9D-BF3B-D74F4560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576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440"/>
              <a:ext cx="1077840" cy="685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77840" cy="13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"/>
          <p:cNvSpPr/>
          <p:nvPr/>
        </p:nvSpPr>
        <p:spPr>
          <a:xfrm>
            <a:off x="3308400" y="6532560"/>
            <a:ext cx="2539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© 2003 SOUTH-WESTERN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886040" y="6532200"/>
            <a:ext cx="12189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7315200" y="6532200"/>
            <a:ext cx="9144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33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077320" y="6532200"/>
            <a:ext cx="9144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33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80632FF4-8B4A-4012-A3C3-5877B2F65BF8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1440"/>
              <a:ext cx="1965240" cy="685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96524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3308400" y="6532560"/>
            <a:ext cx="2539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© 2003 SOUTH-WESTERN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1886040" y="6532200"/>
            <a:ext cx="12189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7315200" y="6532200"/>
            <a:ext cx="9144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33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8077320" y="6532200"/>
            <a:ext cx="9144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33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21D44C26-60DC-41DA-A605-D9155E0105FD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Nonverbal Communication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ody Langu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unspoken communication through physical movements, expressions, and ges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Language may help or hinder your inter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37C8-96B8-4E5F-B181-4BAAF5338553}" type="slidenum">
              <a:t>1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Nonverbal Communication (cont’d)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576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ware of the interviewer’s bod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interviewer’s body language conveys something negative – think about what you are doing or s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what needs chan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A2D-1EE0-416C-B509-7DD90E2B6009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Asking Questions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5760" y="1523520"/>
            <a:ext cx="77724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s involve two-way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viously, the interviewer asks you questions, but also expects you to ask a few questions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9F6B-DE24-4299-80F3-7AACC45FD315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Concluding the Interview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view is almost over and the employer has not said when a decision will be made – what do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ne mistake at the end of a job interview:  NOT ASKING FOR THE JO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the interviewer, Shake hands, and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60" y="5734080"/>
            <a:ext cx="1054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Narrow"/>
              </a:rPr>
              <a:t>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Narrow"/>
              </a:rPr>
              <a:t>5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C77E-E0B7-4F35-A650-40445AE4CC7B}" type="slidenum">
              <a:t>4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22:36:29Z</dcterms:created>
  <dc:creator>M. C. McLaughlin</dc:creator>
  <dc:description/>
  <dc:language>en-US</dc:language>
  <cp:lastModifiedBy>LDSD</cp:lastModifiedBy>
  <dcterms:modified xsi:type="dcterms:W3CDTF">2010-01-03T20:44:13Z</dcterms:modified>
  <cp:revision>32</cp:revision>
  <dc:subject/>
  <dc:title>CHAPTER 5 INTERVIEWING FOR A JOB</dc:title>
</cp:coreProperties>
</file>